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9591-9841-4647-A4A4-91382556A6A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Gutenberg’s printing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9174-B6DE-49C4-99B8-389486384F4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ffe cups, computers, books as an extension of the eyes, the wheel as an extension of the 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08D8-6394-403C-9E03-573214281CA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MMMMMMMMMMMMMMMMMMMMMMMMMM Katy Per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85BB-EF20-4558-BF8C-93528BEE746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A63-D540-4113-8C5B-876F2070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7B5-26FF-4200-BA5C-5D8B584B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606-707C-4965-8D6A-BEC1CC5F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961-21B6-4B21-93D7-A78A9599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31B-37A1-46A9-95CD-C8479445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972-49AB-41EC-A567-AE60EEA7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79D-0652-4D23-829B-3011A46F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238-E49E-44E5-8A37-A74A92EE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9E5-E742-4BED-9DFD-CBEB81A9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7CD-643E-4CB5-AE9F-7FDA552A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3C8-6095-4944-859C-9381FB22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9EC-0800-4A72-AFB9-18D5D268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7C73-CD42-4C7F-BB61-48EB027FD7CC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hapter 4 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chnology and Soci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852720" cy="40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0561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chnological Determ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prefer to see themselves as masters of their own destiny and not technology as their ma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ever, there is validity in the stance taken by technological determi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chnological Determ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55640" y="3284640"/>
            <a:ext cx="1380960" cy="131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08000" y="2205000"/>
            <a:ext cx="9360000" cy="475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744480" y="2781360"/>
            <a:ext cx="3267000" cy="3152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4"/>
          <a:stretch/>
        </p:blipFill>
        <p:spPr>
          <a:xfrm>
            <a:off x="4572000" y="3119400"/>
            <a:ext cx="33242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chnological Determ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84360" y="2095560"/>
            <a:ext cx="7991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4.1 Technology: An agent of Social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lassic example (one of the earliest) examples of technology causing social change?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00000" y="2762280"/>
            <a:ext cx="73440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Technolo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are many different definitions of technology according to each person who uses the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2243160" cy="336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916360" y="3197160"/>
            <a:ext cx="2950920" cy="337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1904760" cy="28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4"/>
          <a:stretch/>
        </p:blipFill>
        <p:spPr>
          <a:xfrm>
            <a:off x="7754760" y="5445000"/>
            <a:ext cx="13338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technolo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the purposes of our study technology is “the creation of tools or objects that both extend our natural abilities and alter our social environment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intro of new technology brings along the possibility for both positive and negative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Social Change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oks at the factors contributing to change within the structures of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oks at changes in the way people think, feel and act and try to generate reasonable hypothesis to explain why change has taken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Social Change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ange happens in society by countless interactions within society’s framework that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begins w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90440" y="3924360"/>
            <a:ext cx="438156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3" descr=""/>
          <p:cNvPicPr/>
          <p:nvPr/>
        </p:nvPicPr>
        <p:blipFill>
          <a:blip r:embed="rId2"/>
          <a:stretch/>
        </p:blipFill>
        <p:spPr>
          <a:xfrm>
            <a:off x="4475160" y="4664160"/>
            <a:ext cx="48816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etal change is initiated by an individual person who shares an idea with his or her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chnological Determ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t forth by Thorstein Veblen (economist and social theor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chnological Determinists see the invention of a particular tool                                        taking on a life of its                                    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wn and society reacting                                     to the n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81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oes Change Begin with the Individual or the Techn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chnological Determ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traditional schools claim that a change in human                         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 accompanied by new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35080" y="2705040"/>
            <a:ext cx="2271960" cy="235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4859280" y="27352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1:46:21Z</dcterms:created>
  <dc:creator>Jason</dc:creator>
  <dc:description/>
  <dc:language>en-US</dc:language>
  <cp:lastModifiedBy>Jason</cp:lastModifiedBy>
  <dcterms:modified xsi:type="dcterms:W3CDTF">2011-03-30T13:12:24Z</dcterms:modified>
  <cp:revision>7</cp:revision>
  <dc:subject/>
  <dc:title>Chapter 4  Technology and Social Change</dc:title>
</cp:coreProperties>
</file>